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45F-AC8B-4025-8F05-81144351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DEBD-285B-4E09-883F-C980B587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F70-F512-4C05-8139-E59C609A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7CC4-C8E4-445B-AD7F-243E8917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0DE-1B01-4F12-9939-38AB0868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245-CCB8-4E5E-B001-BF22EF1B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AC42-BA10-459F-92C4-2DB336FC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959-262C-4E32-8898-B3FBA864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D02-7BB3-4119-B3A2-E635B9BD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1B8-5439-4903-B1CA-D77B4D64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430-551E-40DB-A06E-49B59CD2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037B-341A-4971-9173-53F83DEF0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01CE-79CB-491B-BB73-EC5175D55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39DA-D871-4B9D-852E-273AC04ED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0AF-8352-4460-9F25-045E7F93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96B-0044-46FA-8363-F0B05C81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B43A-5287-4597-834A-3A7452F2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18AE-51CF-4367-A8F6-7B7657EA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633-4F05-4828-876F-27817347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0" r="88599" b="0"/>
          <a:stretch/>
        </p:blipFill>
        <p:spPr>
          <a:xfrm>
            <a:off x="0" y="0"/>
            <a:ext cx="1303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"/>
          <p:cNvSpPr/>
          <p:nvPr/>
        </p:nvSpPr>
        <p:spPr>
          <a:xfrm rot="16200000">
            <a:off x="-2051280" y="358452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works for New Media Literacy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 rot="16200000">
            <a:off x="-2400120" y="3310200"/>
            <a:ext cx="62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aret Weigel, bambini media || OLPC Workshop || April 5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636160" y="4800600"/>
            <a:ext cx="180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in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4th and 5th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ridge,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rcRect l="0" t="0" r="67504" b="90726"/>
          <a:stretch/>
        </p:blipFill>
        <p:spPr>
          <a:xfrm>
            <a:off x="3200400" y="4724280"/>
            <a:ext cx="2311560" cy="85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981080" y="1143000"/>
            <a:ext cx="64771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s for New Med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teracy Assessm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 Weigel, bambini med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@bambini-me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76520" y="533520"/>
            <a:ext cx="259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meaningfully sample and remix media content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creates a collage out of photos of the Civil War foun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finds some random images and slaps them together in no particul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student found meaning in the cont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meaning new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apparent to an external aud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explain the choices m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676520" y="5335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4340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can one’s environment and shift focus onto salient details on an ad hoc basi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2670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works on a ‘breaking news’ blog, updating content as it is sent alo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gets distracted by text messages and email, and does not return to the work at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2819520" y="50896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focus on appropriate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pick up where s/he left 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ignore stimuli as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act meaningfully with tools that expand our cognition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556272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teams play a roleplaying game using handheld devices, which allow them to share information with other team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, can’t or won’t operate the devices, and show no interest in solving the puzz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819520" y="49528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operate the de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use it appropriat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understand/synthesize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/he engaged in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676520" y="533520"/>
            <a:ext cx="396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715000" y="73332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pool knowledge and compare notes with others towards a common goal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56386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compile a list of local government resources, publish it in a wiki, and initiate dialogues with community resi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n’t share information with the broader community, or find it independently, that further the common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nteract with individuals and groups outside of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identify exist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udent engaged in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676520" y="533520"/>
            <a:ext cx="198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886200" y="733320"/>
            <a:ext cx="464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evaluate the reliability and credibility of different information sourc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6576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earches and finds several different cropped versions of a single news photo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ncritically accepts the validity of images and content found online, and forwards found content along to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819520" y="495288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look for markers of cred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seek out different persp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s/he look for the source of online content, and the perspective(s) of the author(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676520" y="533520"/>
            <a:ext cx="4114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edia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019920" y="733320"/>
            <a:ext cx="2514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deal with the flow of stories and information across multiple modalitie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8672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variety of platforms (instant message, PowerPoint, video camera) to create and share a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uses a single modality to create a story, which is not shared on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819520" y="502920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find and create content in various forms? Can s/he conduct a search across multiple modalities? Can s/he follow a narrative across different platfo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038480" y="73332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search for, synthesize and disseminate information in a social network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19520" y="19652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ge a citywide protest about a pending bill in the State House via My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2819520" y="3581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upset about a pending bill in the State House, but can’t coordinate a pro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819520" y="502920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network with p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/he contact adults and professionals via online t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76520" y="533520"/>
            <a:ext cx="220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038480" y="733320"/>
            <a:ext cx="449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travel across diverse communities, discerning and respecting multiple perspectives, and following alternative sets of norms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8862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819520" y="196524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successfully participates in a national online forum with a wide range of participant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819520" y="358128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does not participate, and/or is unable to respectfully listen to different perspectives and opi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819520" y="5029200"/>
            <a:ext cx="5638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 student respect alternate opin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express himself clea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e argue her cas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e change his mind when appropri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 | LEARNING CONTEXT | LEARNING CONT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752480" y="1739880"/>
            <a:ext cx="7162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andardize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ynthesizing assessment into existing subjec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hared standards across districts/states/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bine assessment with taxonomy of skil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295280" y="485640"/>
            <a:ext cx="2819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2489040" cy="107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OLPCpz"/>
          <p:cNvPicPr/>
          <p:nvPr/>
        </p:nvPicPr>
        <p:blipFill>
          <a:blip r:embed="rId2"/>
          <a:srcRect l="0" t="19426" r="75255" b="69925"/>
          <a:stretch/>
        </p:blipFill>
        <p:spPr>
          <a:xfrm>
            <a:off x="2514600" y="3200400"/>
            <a:ext cx="2895480" cy="768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2527200" y="243828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ambini-me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27920" y="393048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z.harvard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OLPCnml"/>
          <p:cNvPicPr/>
          <p:nvPr/>
        </p:nvPicPr>
        <p:blipFill>
          <a:blip r:embed="rId3"/>
          <a:srcRect l="2084" t="13620" r="4167" b="11494"/>
          <a:stretch/>
        </p:blipFill>
        <p:spPr>
          <a:xfrm>
            <a:off x="2590920" y="4800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2517840" y="5530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6120" y="6477120"/>
            <a:ext cx="65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INTRODUCTION |</a:t>
            </a:r>
            <a:r>
              <a:rPr b="0" lang="en-US" sz="1200" spc="-1" strike="noStrike">
                <a:solidFill>
                  <a:srgbClr val="cacac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ARNING CONTEXT |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76520" y="533520"/>
            <a:ext cx="632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New Media Literac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OLPCnml"/>
          <p:cNvPicPr/>
          <p:nvPr/>
        </p:nvPicPr>
        <p:blipFill>
          <a:blip r:embed="rId1"/>
          <a:srcRect l="2084" t="13620" r="4167" b="11494"/>
          <a:stretch/>
        </p:blipFill>
        <p:spPr>
          <a:xfrm>
            <a:off x="1752480" y="1371600"/>
            <a:ext cx="2971800" cy="72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679760" y="21016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jectnml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2480" y="2819520"/>
            <a:ext cx="6858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one of the first three projects funded by the MacArthur Foundations $50M Digital Media and Learning Initiative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One: </a:t>
            </a:r>
            <a:br>
              <a:rPr sz="2400"/>
            </a:br>
            <a:r>
              <a:rPr b="0" lang="en-US" sz="2400" spc="-1" strike="noStrike">
                <a:solidFill>
                  <a:srgbClr val="cd0900"/>
                </a:solidFill>
                <a:latin typeface="Arial"/>
              </a:rPr>
              <a:t>Framework for new media litera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of potent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ronting the Challenges of Participatory Culture: Media Education for the 21st Centu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constitutes a participatory 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52480" y="173988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Low barriers to participation (i.e.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trong support for creating and sharing work with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Informal mentorship where experience and knowledge is passed down to no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nse of meaning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ome degree of social connection with others (individuals, a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LEARNING CONTEXT |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LEARNING CONTENT | 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fundamental challen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52480" y="173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What to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ow to teac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828800" y="3048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52480" y="335268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Transparency Probl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identity how media shapes information via present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Ethics Challeng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students to behave as a responsible participant and community memb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kills can be cultiv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1371600"/>
            <a:ext cx="365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ansmedia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76520" y="533520"/>
            <a:ext cx="7238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743200" y="733320"/>
            <a:ext cx="5943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capacity to experiment with one’s surroundings as a form of problem-solving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2666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re given ‘free time’ online to explore what interests th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se time online to chat with friends, skim the web, or browse inappropriat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819520" y="508968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n identifiable academic payof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sustained/deeper explo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captivate the student’s atten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038480" y="7333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interpret and construct dynamic models of real world processes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80988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19520" y="2041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grow a functional society from the ground up by playing “SimCi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o not bother to discover what facilitates (or even breaks) the SimCity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2819520" y="508968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understand processes be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deliberately alter outcomes by manipulating variab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6120" y="6477120"/>
            <a:ext cx="652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INTROD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| LEARNING CONTEX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 LEARNING CONTENT |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MORE CHALLENGES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676520" y="533520"/>
            <a:ext cx="236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24852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133720" y="327672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733320"/>
            <a:ext cx="419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bility to adopt alternative identities for the purposes of improvisation and discovery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4114800" y="609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 flipV="1">
            <a:off x="2133720" y="21308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133720" y="3886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819520" y="204156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adopts a professional role (I.e. architect) in a sustained fashion (epistemic ga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666880" y="18288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2133720" y="4800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133720" y="5257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19520" y="37180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udent either chooses a role s/he is not interested in, and/or cannot sustain the 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819520" y="4876920"/>
            <a:ext cx="56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student demonstrate an understanding of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 student engage with others while performing this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6:20:08Z</dcterms:created>
  <dc:creator>Office 2004 Test Drive User</dc:creator>
  <dc:description/>
  <dc:language>en-US</dc:language>
  <cp:lastModifiedBy>Melissa Henriquez</cp:lastModifiedBy>
  <cp:lastPrinted>2011-04-04T20:57:42Z</cp:lastPrinted>
  <dcterms:modified xsi:type="dcterms:W3CDTF">2011-04-11T13:08:12Z</dcterms:modified>
  <cp:revision>101</cp:revision>
  <dc:subject/>
  <dc:title>PowerPoint Presentation</dc:title>
</cp:coreProperties>
</file>